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BEB2-147C-42D4-BA13-0F9B7FCF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DACE-11A4-4330-891D-897E09FE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81D5-8A95-4377-A5AF-B12C39332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6264-E074-45DF-8B86-859CF0C8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9061-52C9-4438-80B8-5572A026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6FB8-9AE5-4260-ACC3-2706DA65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1D9E-B0B9-4915-B8AE-626DB8C5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044B-3E0F-4069-86E6-E3DD8FE7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319C-3A21-4116-8153-B5A5732F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659F-1E04-4E1F-BB77-E9906576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C502-0F71-4DAE-8FB1-08145F46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757E-A7E3-496E-82F8-027F6AED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73B6-E318-4E79-A4E9-08CFD237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C032-AD62-492F-83E4-204354A2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9C52-3608-4996-A971-50D103EF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15B9-8206-46C5-9C8D-CBF607E6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81D3-3A67-41B3-A05F-A5A6F7C8B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8B5A-5867-4177-833A-61B38AD1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721F-CC20-4DD7-9C12-A100CF91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C7FE-D189-4468-9F53-55D45FF5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ABBC-3B13-4817-959C-C67DD2E2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185D-CFBD-4C31-BEF6-1DEE016D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2674-B7E7-40DA-A948-4744E55A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742C-3301-4C91-859D-D4B16441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B350-58ED-4661-8A3D-D3123C043856}" type="slidenum"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E9D6-C2F0-46A5-B77C-16E28CFEC5DA}" type="slidenum"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3048120"/>
            <a:ext cx="3286080" cy="3809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554800" y="0"/>
            <a:ext cx="3589200" cy="4952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076640" cy="3057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3124080" y="2819520"/>
            <a:ext cx="2713320" cy="4038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3733920" y="0"/>
            <a:ext cx="2139840" cy="2832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5759280" y="3933720"/>
            <a:ext cx="3384720" cy="2924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380880" y="2666880"/>
            <a:ext cx="5486400" cy="197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Russian Civil Wa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What Caused the Civil War? 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54100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Light"/>
              </a:rPr>
              <a:t>The civil war lasted for 3 years, 1918-1921. </a:t>
            </a:r>
            <a:endParaRPr b="0" lang="en-US" sz="2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Light"/>
              </a:rPr>
              <a:t>After November 1917, rise of Lenin, many groups formed that opposed Lenin and the Bolsheviks and how they worked for the peasants and the workers. </a:t>
            </a:r>
            <a:endParaRPr b="0" lang="en-US" sz="2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Light"/>
              </a:rPr>
              <a:t>These groups included monarchists, militarists, and for a short time, some foreign nations. </a:t>
            </a:r>
            <a:endParaRPr b="0" lang="en-US" sz="2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Light"/>
              </a:rPr>
              <a:t>In January 1918, General Kornilov organized an anti-bolshevik movement and his army was known as the White army. </a:t>
            </a:r>
            <a:endParaRPr b="0" lang="en-US" sz="2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Light"/>
              </a:rPr>
              <a:t>Together, these groups were known as the White Army while the Bolsheviks were known as the Red Army. </a:t>
            </a:r>
            <a:endParaRPr b="0" lang="en-US" sz="2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Light"/>
              </a:rPr>
              <a:t>The groups were led by general Yudenitch, Denikin and Kolchak. </a:t>
            </a:r>
            <a:endParaRPr b="0" lang="en-US" sz="2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Light"/>
              </a:rPr>
              <a:t>The Treaty of Riga brought to an end the Russian Civil War.</a:t>
            </a:r>
            <a:r>
              <a:rPr b="0" lang="en-US" sz="2000" spc="-1" strike="noStrike">
                <a:solidFill>
                  <a:srgbClr val="000000"/>
                </a:solidFill>
                <a:latin typeface="Copperplate Gothic Ligh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280" y="0"/>
            <a:ext cx="660564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400" spc="-1" strike="noStrike">
                <a:solidFill>
                  <a:srgbClr val="000000"/>
                </a:solidFill>
                <a:latin typeface="Copperplate Gothic Light"/>
              </a:rPr>
              <a:t>Nikolai Yudenich</a:t>
            </a:r>
            <a:endParaRPr b="1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5388120" cy="51847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pperplate Gothic Light"/>
              </a:rPr>
              <a:t>He posed the greatest threat to the Bolsheviks, as he reached Gatchina, a place 50 km from Petrograd, in October 1918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pperplate Gothic Light"/>
              </a:rPr>
              <a:t>Trotsky soon arrived to defend the capital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pperplate Gothic Light"/>
              </a:rPr>
              <a:t>Industrial workers were recruited and the railway from Moscow was used to bring backup and soon Yudenitch was outnumbered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pperplate Gothic Light"/>
              </a:rPr>
              <a:t>He then ordered his troops to surrender and escaped to Estonia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248520" y="1752480"/>
            <a:ext cx="2633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pperplate Gothic Light"/>
              </a:rPr>
              <a:t>Anton Denikin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655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pperplate Gothic Light"/>
              </a:rPr>
              <a:t>Together with general Peter Wrangel, he took control of the Kuban Region in October, 1918 and Wrangel continued to advance along Volga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pperplate Gothic Light"/>
              </a:rPr>
              <a:t>He retreated to Crimea when general Mikhail Frunze went to clear Turkestan of anti-bolsheviks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pperplate Gothic Light"/>
              </a:rPr>
              <a:t>He then retreated to </a:t>
            </a:r>
            <a:r>
              <a:rPr b="0" lang="en-US" sz="2000" spc="-1" strike="noStrike">
                <a:solidFill>
                  <a:srgbClr val="000000"/>
                </a:solidFill>
                <a:latin typeface="Copperplate Gothic Light"/>
              </a:rPr>
              <a:t>Novorossiysk</a:t>
            </a:r>
            <a:r>
              <a:rPr b="0" lang="hr-HR" sz="2000" spc="-1" strike="noStrike">
                <a:solidFill>
                  <a:srgbClr val="000000"/>
                </a:solidFill>
                <a:latin typeface="Copperplate Gothic Light"/>
              </a:rPr>
              <a:t> and was forced to leave Russia when faced by Mikhail Tukachevsky in April 1920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522760" y="1484280"/>
            <a:ext cx="29480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6562800" cy="922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pperplate Gothic Light"/>
              </a:rPr>
              <a:t>Alexander Kolchak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84056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pperplate Gothic Light"/>
              </a:rPr>
              <a:t>He set up an anti-bolshevik dictatorship in Omsk (Siberia)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pperplate Gothic Light"/>
              </a:rPr>
              <a:t>In March 1919 he captured Ufa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pperplate Gothic Light"/>
              </a:rPr>
              <a:t>The Red Army, led by Mikhail Frunze entered Omsk in November 1919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pperplate Gothic Light"/>
              </a:rPr>
              <a:t>Kolchak tried to escape but was captured by the Czechs who handed him over to the Bolsheviks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pperplate Gothic Light"/>
              </a:rPr>
              <a:t>Executed on 7th February 1920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724360" y="1557360"/>
            <a:ext cx="294660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44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Why did the Bolsheviks win the Civil War? 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3"/>
              </a:rPr>
              <a:t>The Bolsheviks were united under Lenin and Trotsky whilst the Whites were divided. 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3"/>
              </a:rPr>
              <a:t>They had a common cause, Marxism. The Whites had different agendas, their slogan, “Russia: one and indivisible” wasn’t true as they depended on foreign aid. 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629400" y="3886200"/>
            <a:ext cx="2081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Bolsheviks had a good geographical position as they were situated in the industrial heartlands of Russia. 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e Whites were 10500 kilometres away from 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each other and had 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o communicate via 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Paris. 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715000" y="2590920"/>
            <a:ext cx="3187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676520" y="1219320"/>
            <a:ext cx="6051600" cy="28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he End!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ace farquharthomson</cp:lastModifiedBy>
  <dcterms:modified xsi:type="dcterms:W3CDTF">2007-11-07T03:33:45Z</dcterms:modified>
  <cp:revision>10</cp:revision>
  <dc:subject/>
  <dc:title>Nikolai Yudenich</dc:title>
</cp:coreProperties>
</file>